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7F4-B925-4248-B851-EC12DC68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580-7C42-4B04-A8B3-1FEEC156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BC2-9309-457C-AFF9-913396F6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A6D1-9B3E-49E1-B062-58F9E9A8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457-2680-4B6F-89E4-6151A465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838-88AD-4EC3-BA0F-1F3B2719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6BE-67CE-4B3E-8A00-861A5143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386-0C18-434D-99ED-D3AB72D8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E760-40B3-4B4F-8BB2-3592453B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7AE-DD28-42F0-8B92-AABC8A48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71C-EA97-45CA-B64A-42FC0338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80E-BAC7-48A5-91C7-7F219F21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C81D-F2F8-44E9-A540-4B3922FDD1B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Mt. Pinatub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Mt. Pinatubo, June 1991 (The Philippin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t. Pinatubo had not erupted for over 600 year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ts slopes had become fertile, well-cultivated paddy field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People did not expect it to erup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On 1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June the mountain erupted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easurements and predictions by scientists had meant that over 200,000 people had been evacuated by the time that the mountain erupte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ruption sent a huge cloud of gas and ash up into the atmosphe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rrential rain then caused much of the ash to be deposited back on the ground as mu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over 600km in radius had ash falls from the volcano, with nearly 50cm falling near the mountain itsel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terrifying of all were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har'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was produc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huge, speeding mudslides, formed by the ash and the torrential rain that swept down covering entire villages in a think layer of mud, often up to 10 feet dee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destroyed over 200,000 homes and covered 50,000 hectares of farm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Afterm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hough a relatively small number of people were killed (350), the effects of the eruption were devastat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eases such 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lar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oler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read quickly in the refugee camps set up to help the evacuee'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the next few years, heavy rains caused ash and dust from the eruption to create more devastating lah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5:15:57Z</dcterms:created>
  <dc:creator>Dell_02</dc:creator>
  <dc:description/>
  <dc:language>en-US</dc:language>
  <cp:lastModifiedBy>Dell_02</cp:lastModifiedBy>
  <dcterms:modified xsi:type="dcterms:W3CDTF">2011-01-26T05:20:29Z</dcterms:modified>
  <cp:revision>1</cp:revision>
  <dc:subject/>
  <dc:title>Mt. Pinatubo</dc:title>
</cp:coreProperties>
</file>